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pptx" ContentType="application/vnd.openxmlformats-officedocument.presentationml.presentation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76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440" y="4343400"/>
            <a:ext cx="5483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760" y="8685000"/>
            <a:ext cx="296856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4D7D0F-8A02-47CE-8F42-E73CBC56B2D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3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49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FD27-1C00-474C-963B-7468411C2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94F1-E9ED-43E8-B5AE-3B2C19311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CAB-A48A-46C7-8854-5EC8668071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200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38920" y="19807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44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200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38920" y="4196520"/>
            <a:ext cx="250128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C6667-F032-4695-B4A4-4834E836D3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632E-A0D5-453E-88DD-976A46D9B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C037C-05DD-4212-9932-BC765AB3E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8EAB-A21E-407C-A5B1-23A4D0A380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90061-A313-4B46-BE34-1C13DDC32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440" y="609120"/>
            <a:ext cx="77691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56BD-F66D-40C9-966A-96F325352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B7F27-93E3-4C6B-BBEE-9544B1184B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680" y="41965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52FBA-FC67-403D-BAC7-E3E124A50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680" y="1980720"/>
            <a:ext cx="3791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440" y="4196520"/>
            <a:ext cx="7769160" cy="202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3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96D5-766B-4D02-BCC9-2A1BB32F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609120"/>
            <a:ext cx="77691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3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980720"/>
            <a:ext cx="7769160" cy="424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1800" indent="-27180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591840" indent="-2260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28016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645920" indent="-182880">
              <a:lnSpc>
                <a:spcPct val="13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44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2A83F7-0245-4E45-B1D4-C99DDA04F9D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Bitstream Vera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.wmf"/><Relationship Id="rId3" Type="http://schemas.openxmlformats.org/officeDocument/2006/relationships/image" Target="../media/image2.wmf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" name=""/>
          <p:cNvSpPr/>
          <p:nvPr/>
        </p:nvSpPr>
        <p:spPr>
          <a:xfrm>
            <a:off x="1258920" y="836640"/>
            <a:ext cx="66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 u="sng">
                <a:solidFill>
                  <a:srgbClr val="000000"/>
                </a:solidFill>
                <a:uFillTx/>
                <a:latin typeface="Times New Roman"/>
              </a:rPr>
              <a:t>NEW MODES OF GATHERING SURVEY DA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195640" y="2781360"/>
            <a:ext cx="504036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AT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ELLULAR PH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L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TER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6" name="" descr=""/>
          <p:cNvPicPr/>
          <p:nvPr/>
        </p:nvPicPr>
        <p:blipFill>
          <a:blip r:embed="rId3"/>
          <a:stretch/>
        </p:blipFill>
        <p:spPr>
          <a:xfrm>
            <a:off x="324000" y="189000"/>
            <a:ext cx="8496000" cy="640872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uan Díez Nicolás</dc:creator>
  <dc:description/>
  <dc:language>en-US</dc:language>
  <cp:lastModifiedBy>NickM</cp:lastModifiedBy>
  <cp:revision>0</cp:revision>
  <dc:subject/>
  <dc:title>Sin título de diapositiva</dc:title>
</cp:coreProperties>
</file>